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A092-F647-4CBE-813F-A8DE9CFB4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6045-B8BA-420E-A9D5-091671E8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3042-E427-4F8F-ADB2-CA24A15F4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BFCB-8183-415B-980D-9D95DE4C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455B-882A-473A-A7B3-E371AF8E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C215-30EE-44AE-8DDD-BEAA24B2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EF75-9E34-4E1E-9850-5721A333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5BB4-9E36-4DCC-8515-0E36189F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4B23-12A2-45D8-9088-E88D695B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F249-8F0E-4D38-B3DF-DC54CD2E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8D2B-313F-4216-AB64-E331BC48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9768-A2D8-4A64-8527-8C45EE8F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3F5D-E639-49BB-A71B-429382D0B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nis-pedagogie.org/index.php?spec=lexique&amp;numpage=179&amp;numfamille=11&amp;numrub=33&amp;numcateg=&amp;numsscateg=&amp;numpara=2342&amp;lettre=E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L'embryogenèse somatiqu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0240" y="1219320"/>
            <a:ext cx="8839080" cy="5410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.  Définit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2.Princi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3.Explant utilis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4. Principales éta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5.Voies de l’embryogénèse somat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6.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7. Avantages et lim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2840" y="0"/>
            <a:ext cx="90583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48560"/>
          </a:xfrm>
          <a:prstGeom prst="rect">
            <a:avLst/>
          </a:prstGeom>
          <a:ln w="0">
            <a:noFill/>
          </a:ln>
        </p:spPr>
      </p:pic>
      <p:sp>
        <p:nvSpPr>
          <p:cNvPr id="61" name="ZoneTexte 4"/>
          <p:cNvSpPr/>
          <p:nvPr/>
        </p:nvSpPr>
        <p:spPr>
          <a:xfrm>
            <a:off x="0" y="3048120"/>
            <a:ext cx="3733920" cy="3660120"/>
          </a:xfrm>
          <a:prstGeom prst="rect">
            <a:avLst/>
          </a:pr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Voies de l’embryogénèse soma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C:\Users\client\Desktop\sans-titre-7.png"/>
          <p:cNvPicPr/>
          <p:nvPr/>
        </p:nvPicPr>
        <p:blipFill>
          <a:blip r:embed="rId1"/>
          <a:stretch/>
        </p:blipFill>
        <p:spPr>
          <a:xfrm>
            <a:off x="0" y="1447920"/>
            <a:ext cx="8686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tre 1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Voie indirecte ou passage par un 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1204560"/>
            <a:ext cx="9144000" cy="692460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txBody>
          <a:bodyPr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 nombreuses divisions cellulaires sont rapidement provoquées à partir des tissus cultivés grâce à l'apport d'une forte dose d'auxine. Un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al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t alors obtenu, c'est à dire un amas de cellules indifférenciées, rejuvénilisées et qui pourront donner naissance à de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embryons bipolair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(avec un méristème de racines et un méristème de tiges)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i vont se comporter comme des embryons zygotiques, (issus de la fécondation entre une cellule sexuelle femelle et une cellule sexuelle mâl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Embryon soma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:\Users\client\Desktop\cafe.jpg"/>
          <p:cNvPicPr/>
          <p:nvPr/>
        </p:nvPicPr>
        <p:blipFill>
          <a:blip r:embed="rId1"/>
          <a:stretch/>
        </p:blipFill>
        <p:spPr>
          <a:xfrm>
            <a:off x="2819520" y="1447920"/>
            <a:ext cx="4495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client\Desktop\stdprod_088912.jpg"/>
          <p:cNvPicPr/>
          <p:nvPr/>
        </p:nvPicPr>
        <p:blipFill>
          <a:blip r:embed="rId1"/>
          <a:stretch/>
        </p:blipFill>
        <p:spPr>
          <a:xfrm>
            <a:off x="457200" y="304920"/>
            <a:ext cx="80773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Espace réservé du contenu 3" descr="img-1.jpg"/>
          <p:cNvPicPr/>
          <p:nvPr/>
        </p:nvPicPr>
        <p:blipFill>
          <a:blip r:embed="rId1"/>
          <a:stretch/>
        </p:blipFill>
        <p:spPr>
          <a:xfrm>
            <a:off x="228600" y="457200"/>
            <a:ext cx="83059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6840" y="1143000"/>
            <a:ext cx="8381880" cy="5486400"/>
          </a:xfrm>
          <a:prstGeom prst="rect">
            <a:avLst/>
          </a:prstGeom>
          <a:solidFill>
            <a:srgbClr val="8ac6c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'embryogenèse somatique est une technique qui s'adapte bien à la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duction industriel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. Les embryons somatiques peuvent être initiés dans des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bioréacteur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, afin soit de produire de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semences artificiel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en les encapsulant dans un gel nutritif, ou encore pour la synthèse d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métabolites secondaires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tilisés dans des médicaments, colorants, etc. Ce peut-être également un moyen de cloner des ligneux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Applications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0" y="1905120"/>
            <a:ext cx="9144000" cy="3657600"/>
          </a:xfrm>
          <a:prstGeom prst="rect">
            <a:avLst/>
          </a:prstGeom>
          <a:solidFill>
            <a:srgbClr val="e2ef3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n litre de milieu de culture contenu dans un fermenteur peut produire des milliers, voire des millions d'embryons somatique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Applications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Définition de l'embryogenèse somatiqu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0240" y="1219320"/>
            <a:ext cx="9023400" cy="5410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'embryogenèse somatique est une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forme de multiplication végétativ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qui permet d'obtenir une multitude de plantules identiques génétiquement à la plante donneuse d'explants.C'est  donc l'obtention d'embryons à partir de cellules somatiques, c'est à dire non sexuel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Définition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2.Principe de l’haplodiploid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3.Obtention de la phase haploï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4. Androgénè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5.Gynogénè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6.Retour à l'état fertile diploï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- Traitement à la colchic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7.Intérêt de l’haplodiploid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0" y="1066680"/>
            <a:ext cx="9144000" cy="5105520"/>
          </a:xfrm>
          <a:prstGeom prst="rect">
            <a:avLst/>
          </a:prstGeom>
          <a:solidFill>
            <a:srgbClr val="e2ef3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Cette technique de multiplication s'adapte à l'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automatisation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, ce qui permet de réduire les coûts de produc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rendemen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en plantes produites est très élev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s embryons obtenus sont d'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origine unicellulaire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, il n'y a donc pas de problème de  chimè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Avantages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2ef3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imites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1371240"/>
            <a:ext cx="8915400" cy="5257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passage par cal peut amener des risques de dérive génétique, c'est à dire d'obtention d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variants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i seraient différents de la plante de dé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rs de croisements interspécifiques, des barrières naturelles empêchent le développement complet de l'embryon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r remédier à cette situation, on pratique après fécondation un prélèvement précoce des embryons pour les mettre en culture sur un milieu artificiel nutritif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tte technique de culture in vitro est appelée sauvetage d'embryons interspécifiqu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 6: Le sauvetage d'embryons interspécifiqu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sauvetage d’embryon consiste à prélever un embryon immature afin de le cultiver in vitro pour accélérer les cycles de végétation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 ce sauvetage peut aussi être effectué car l’embryon ne pourrait peut être pas se développer dans les tissus maternels comme dans le cas d’un croisement interspécifique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rs de croisements interspécifiques, des barrières naturelles empêchent le développement complet de l'embryon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remédier à cette situation, on pratique, après fécondation, un prélèvement précoce des embryons pour les mettre en culture sur un milieu artificiel nutritif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tte technique de culture in vitro est appelée sauvetage d'embryons interspécifiques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6: Le sauvetage d'embryons interspécifiqu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6: Le sauvetage d'embryons interspécifiques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incipe de la technique du Sauvetage d'embryon interspécifique</a:t>
            </a:r>
            <a:r>
              <a:rPr b="1" i="1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on croise une espèce sauvage de tomate avec une espèce cultivée de tomate, l'embryon issu de cette fécondation va avorter à cause de l'absence d'appariement des chromosomes lors de la prophase I de la méïose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apsis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éviter cette avortement, l'embryon immature sera prélevè et mise en culture dans une boite de pétri afin d'assurer la régénération d'un nouvel individu possèdant les caractèristiques des 2 espèces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technique du sauvetage d'embry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avortement d'embryons issus de croisements interspécifiques est attribué à un développement retardé de l'albumen, par incompatibilité entre les tissus embryonnaires et maternel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récupération de l'embryon doit être effectuée avant son avortement, entre 4 et 16 jours après la fécondation, selon l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spèc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est souvent nécessaire de réaliser ce prélèvement sous une loupe binoculair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'est pourquoi on cherche à retarder cette opération pour disposer de matériel végétal plus facilement manipulabl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graines immatures sont désinfectées en surface et après dissection, les embryons sont transférés sur un milieu de culture solide appropri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ès deux semaines, les embryons ont généralement atteint le stade cotylédonair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transfert sur un milieu riche en hormones de croissance permet la production de plant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'avortement d'embryons issus de croisements interspécifiques est attribué à un développement retardé de l'albumen, par incomp20 mai, 2010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écupération de l'embryon doit être effectuée avant son avortement, entre 4 et 16 jours après la fécondation, selon les espèce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est souvent nécessaire de réaliser ce prélèvement sous une loupe binoculaire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'est pourquoi on cherche à retarder cette opération pour disposer de matériel végétal plus facilement manipulable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graines immatures sont désinfectées en surface et après dissection, les embryons sont transférés sur un milieu de culture solide appropri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ès deux semaines, les embryons ont généralement atteint le stade cotylédonaire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transfert sur un milieu riche en hormones de croissance permet la production de plante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4267440" cy="632448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4648320" y="0"/>
            <a:ext cx="4038480" cy="533412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 culture d'embryons imm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190440" y="61920"/>
            <a:ext cx="9524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ryocon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servation de matériel vivant à très basse tempé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zote liquide (-196°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apeurs d’azote (-150°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tat de vie suspendue, réver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7545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blématiqu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servation d’espèces en voie de disparition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bjectif agronomique : réservoir de variabilité utilisable pour des plans de sé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bjectif médical : réservoir de substances actives inconn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bjectif éthique : préservation d’une richesse de nature non-march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servation de variétés agronomiques ou horticoles intéress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viter de perdre les variétés tombées en désué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rosion génétique des espèces à multiplication végét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Meilleure solution : la cryopreserva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freeze2"/>
          <p:cNvPicPr/>
          <p:nvPr/>
        </p:nvPicPr>
        <p:blipFill>
          <a:blip r:embed="rId1"/>
          <a:stretch/>
        </p:blipFill>
        <p:spPr>
          <a:xfrm>
            <a:off x="1143000" y="2438280"/>
            <a:ext cx="2895480" cy="2167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0" name="Picture 4" descr="storage1"/>
          <p:cNvPicPr/>
          <p:nvPr/>
        </p:nvPicPr>
        <p:blipFill>
          <a:blip r:embed="rId2"/>
          <a:stretch/>
        </p:blipFill>
        <p:spPr>
          <a:xfrm>
            <a:off x="4267080" y="2419200"/>
            <a:ext cx="2895840" cy="2165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rinci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Éviter la formation de cristaux dans le cytopla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gélation rap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shydratation des échantill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échage à l’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shydratation par congélation 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auvetage d’embry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compatibilité du porte gra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900000" y="2349360"/>
            <a:ext cx="80154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semences hybrides sont viables mais le développement ne peut se faire sur le pied m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égénération de la plante par culture 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in vitro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 l’embry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268360" y="5300640"/>
            <a:ext cx="65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de la triticale (Triticum x Se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es principales étap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-360" y="1371600"/>
            <a:ext cx="8915400" cy="548640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Étape 1.In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n induit de nombreuses divisions cellulaires à partir des tissus mis en culture. Le milieu est complémenté par de 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fortes doses d'auxine (2,4D) et de cytokinin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 Le 2,4D est une auxine de synthèse. Elle est perçue comme une auxine par la plante mais n'est pas dégradée. Son accumulation provoque alors un choc auxinique : les cellules prolifèrent et forment un cal cellula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792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es principales étap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066680"/>
            <a:ext cx="8229600" cy="548640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Étape 2. Mainten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cal est transféré sur 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un milieu d'induc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de l'embryogenèse. Le cal cellulaire devient alors </a:t>
            </a:r>
            <a:r>
              <a:rPr b="1" lang="fr-FR" sz="3200" spc="-1" strike="noStrike">
                <a:solidFill>
                  <a:srgbClr val="c00000"/>
                </a:solidFill>
                <a:latin typeface="Arial"/>
              </a:rPr>
              <a:t>embryogè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 On peut ainsi découper ce cal en plusieurs morceaux pour augmenter la taille de la population végét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es principales étap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600" y="1066680"/>
            <a:ext cx="8610480" cy="5486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Étape 3. Développ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e cal est transféré sur un </a:t>
            </a: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milieu d'expression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. Ce milieu ne contient aucune hormone et va permettre le développement des embry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re 1"/>
          <p:cNvSpPr/>
          <p:nvPr/>
        </p:nvSpPr>
        <p:spPr>
          <a:xfrm>
            <a:off x="380880" y="152280"/>
            <a:ext cx="8229600" cy="792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es principales étap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Étape 4 .Maturation et g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embryons vont ensuite maturer (au bout de 5 semaines), puis germer. On obtient des plantules somatiques, elles vont alors pouvoir être cultivées en sol pour finir leur croiss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es principales étap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ZoneTexte 2"/>
          <p:cNvSpPr/>
          <p:nvPr/>
        </p:nvSpPr>
        <p:spPr>
          <a:xfrm>
            <a:off x="177840" y="0"/>
            <a:ext cx="380880" cy="764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ALA COMPUTERS</cp:lastModifiedBy>
  <dcterms:modified xsi:type="dcterms:W3CDTF">2001-12-31T23:17:59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